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8F1D-5D05-4248-A4E8-2294464D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19F-0DE9-4300-9088-128EC6B8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97ED-CE03-409F-A960-21A695B8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9FC-3202-4C88-9FA6-39ACF55B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713B-98F6-49B2-A7AD-A4AF26A6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1E85-9003-4770-A36A-9DBEAF8F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E97B-BD3D-4B42-93F4-7981A107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9C8B-7330-4192-890B-AA2DBA92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2702-7D68-4B86-9F41-FD0F4B71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C6E9-F21E-4429-A152-B846D81A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5F90-1124-4D91-9ECB-0AB9C2A3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707-3CBE-4A04-89D1-2E16D14E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A0A2-B76B-4F8A-A321-1F4CBDF4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E934-529E-40C7-837C-DE36062A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A7EA-C3C9-4D83-8A62-5DF608B0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B89C-6973-4D3A-B47C-69D0E942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8772-5F28-4D00-970B-5547BA21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905-C00D-42B5-83F3-9DB4B36F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BDC-9E54-4B4A-857B-420349A3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F715-DE76-4FEC-A9C5-7398FD31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F0B-37BC-4117-B8AD-454FAC00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2E0B-EEE3-4D5E-932D-7299CF31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2A7-127F-449A-A324-72456DFC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1A41-2B31-4285-99CE-7B38C69A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2493-888F-4B3F-9E4B-14DD4F4EA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7236-A2B6-4BD4-8511-D03B5384C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УРОЛОШКИ ПРОБЛЕМИ У СТАР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Проф. </a:t>
            </a:r>
            <a:r>
              <a:rPr b="0" lang="sr-RS" sz="3200" spc="-1" strike="noStrike">
                <a:solidFill>
                  <a:srgbClr val="0d0d0d"/>
                </a:solidFill>
                <a:latin typeface="Calibri"/>
              </a:rPr>
              <a:t>Д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р Радојица Стол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Факултет Медицинских наука Крагујева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447920" y="60948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Е СТРУКОВНЕ СТУДИЈЕ-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СТРУКОВНА МЕДИЦИНСКА СЕ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ЕРИЈАТРИЈА СА НЕГ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СТАВНА ЈЕДИНИЦА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14. неде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Остале дијагностичке процеду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9404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нализа крви: СЕ, ККС, гликемија, холестерол, укупни протеини, уреа, креатин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ринокул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вазивне методе дијагностике (обазрив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т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уротра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хо бубре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Најчешћи уролошки проблеми у стар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ољење проста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лабост пода карл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стичне тего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континен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нсплантација бубре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505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Простатиз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066680"/>
            <a:ext cx="41907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9920" indent="-169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ремећај мокрења код старих мушкараца се најчешће манифестује као последица постојања препрека и ири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alibri"/>
              </a:rPr>
              <a:t>Симптом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чекање на почетак мокрења, танак млаз, мокрење кап по кап, осећај да бешика није довољно испражњена после мокрења, полакизурија, ноктурија, инконтиненција, потреба за чешћим мокрењ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Prikaz prostate i susjednih organa"/>
          <p:cNvPicPr/>
          <p:nvPr/>
        </p:nvPicPr>
        <p:blipFill>
          <a:blip r:embed="rId1"/>
          <a:stretch/>
        </p:blipFill>
        <p:spPr>
          <a:xfrm>
            <a:off x="4724280" y="1219320"/>
            <a:ext cx="4191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Аденом проста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стаје након 50 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Стадијум дизур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отежано мокрење, чекање на почетак мокрења, тањи мл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тадијум инкомплетне ретен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сећај заостајања мокраћ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Стадијум комплетне ретен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јављају се знаци компликације-инфекције, хематурија, уролитијаза, хидроуретери, ПНФ, 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Карцином проста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419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рцином простате споро расте, скоро 90% остаје годинама без симпт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авља се код 5-7% особа старијих изнад 50. годи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3% оболелих умире од рака проста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болели након 70.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одине умиру са карциномом простате а не од ње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RAK_PROSTATE_UZV_4,_VELIKA"/>
          <p:cNvPicPr/>
          <p:nvPr/>
        </p:nvPicPr>
        <p:blipFill>
          <a:blip r:embed="rId1"/>
          <a:srcRect l="12442" t="12698" r="5046" b="0"/>
          <a:stretch/>
        </p:blipFill>
        <p:spPr>
          <a:xfrm>
            <a:off x="5029200" y="1523880"/>
            <a:ext cx="38862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66"/>
                </a:solidFill>
                <a:latin typeface="Calibri"/>
              </a:rPr>
              <a:t>Симптоми к</a:t>
            </a:r>
            <a:r>
              <a:rPr b="1" lang="en-US" sz="4400" spc="-1" strike="noStrike">
                <a:solidFill>
                  <a:srgbClr val="ff0066"/>
                </a:solidFill>
                <a:latin typeface="Calibri"/>
              </a:rPr>
              <a:t>арцином</a:t>
            </a:r>
            <a:r>
              <a:rPr b="1" lang="sr-Latn-CS" sz="4400" spc="-1" strike="noStrike">
                <a:solidFill>
                  <a:srgbClr val="ff0066"/>
                </a:solidFill>
                <a:latin typeface="Calibri"/>
              </a:rPr>
              <a:t>а</a:t>
            </a:r>
            <a:r>
              <a:rPr b="1" lang="en-US" sz="4400" spc="-1" strike="noStrike">
                <a:solidFill>
                  <a:srgbClr val="ff0066"/>
                </a:solidFill>
                <a:latin typeface="Calibri"/>
              </a:rPr>
              <a:t> проста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5240" indent="-1652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Отежано мокрењ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Оклевање код мокрења (ст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не, крене, испрекидано,..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Често мокрење, посебно ноћ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Слабији млаз мокрењ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Стални осећај недовољно испражњене бешике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Болно мокрење и печењ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Крв у мокраћ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Крв у спер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Проблем са ерекцијом и ејакулацијом (болна ејакулациј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Учестали болови у доњем делу леђа и куко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Digitorektalni pregled Ca prostate"/>
          <p:cNvPicPr/>
          <p:nvPr/>
        </p:nvPicPr>
        <p:blipFill>
          <a:blip r:embed="rId1"/>
          <a:srcRect l="3211" t="1332" r="3164" b="4692"/>
          <a:stretch/>
        </p:blipFill>
        <p:spPr>
          <a:xfrm>
            <a:off x="5334120" y="1371600"/>
            <a:ext cx="3581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66"/>
                </a:solidFill>
                <a:latin typeface="Calibri"/>
              </a:rPr>
              <a:t>Дијагноза к</a:t>
            </a:r>
            <a:r>
              <a:rPr b="1" lang="en-US" sz="4400" spc="-1" strike="noStrike">
                <a:solidFill>
                  <a:srgbClr val="ff0066"/>
                </a:solidFill>
                <a:latin typeface="Calibri"/>
              </a:rPr>
              <a:t>арцином</a:t>
            </a:r>
            <a:r>
              <a:rPr b="1" lang="sr-Latn-CS" sz="4400" spc="-1" strike="noStrike">
                <a:solidFill>
                  <a:srgbClr val="ff0066"/>
                </a:solidFill>
                <a:latin typeface="Calibri"/>
              </a:rPr>
              <a:t>а</a:t>
            </a:r>
            <a:r>
              <a:rPr b="1" lang="en-US" sz="4400" spc="-1" strike="noStrike">
                <a:solidFill>
                  <a:srgbClr val="ff0066"/>
                </a:solidFill>
                <a:latin typeface="Calibri"/>
              </a:rPr>
              <a:t> проста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5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линичка слика, ректални преглед, ултразвук, кисела фосфатаза, ПСА, биопсија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Ultrazvuk"/>
          <p:cNvPicPr/>
          <p:nvPr/>
        </p:nvPicPr>
        <p:blipFill>
          <a:blip r:embed="rId1"/>
          <a:stretch/>
        </p:blipFill>
        <p:spPr>
          <a:xfrm>
            <a:off x="4987800" y="1623960"/>
            <a:ext cx="353880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Calibri"/>
              </a:rPr>
              <a:t>Инконтиненција-дефиниција и учесталос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Невољно и неконтролисано испуштање (бежање) мокраће, најчешће на неприкладном месту и у неприкладно врем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8% свих жена преко 15 година и </a:t>
            </a:r>
            <a:r>
              <a:rPr b="0" lang="sr-CS" sz="2900" spc="-1" strike="noStrike" u="sng">
                <a:solidFill>
                  <a:srgbClr val="000000"/>
                </a:solidFill>
                <a:uFillTx/>
                <a:latin typeface="Calibri"/>
              </a:rPr>
              <a:t>13% жена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изнад 65 година пати од уринарне инконтиненциј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 u="sng">
                <a:solidFill>
                  <a:srgbClr val="000000"/>
                </a:solidFill>
                <a:uFillTx/>
                <a:latin typeface="Calibri"/>
              </a:rPr>
              <a:t>Код мушкараца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 изнад 15 година инконтиненција је заступљена код 2% а код оних изнад 65 година </a:t>
            </a:r>
            <a:r>
              <a:rPr b="0" lang="sr-CS" sz="2900" spc="-1" strike="noStrike" u="sng">
                <a:solidFill>
                  <a:srgbClr val="000000"/>
                </a:solidFill>
                <a:uFillTx/>
                <a:latin typeface="Calibri"/>
              </a:rPr>
              <a:t>6,8%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Само једна трећина тражи помоћ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ff"/>
                </a:solidFill>
                <a:latin typeface="Calibri"/>
              </a:rPr>
              <a:t>Подела инконтинен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4507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Функционалн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(не може да оде до тоалета без одлаг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07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Неинхибирана бешика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(код сенилне деменције-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lzheimer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07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Препуњеност бешике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(дијабетичари, хипертрофија простат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07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Стрес инконтиненција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(жене у менопаузи, релаксација пода карлиц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Stres incontinentio </a:t>
            </a: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ур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следица је слабости мишића карличног д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бог високог притиска у м.бешици долази до губитка ури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 постоји нагон за мокрењ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Фактори ризика: порођај, прекомерна ТТ, лоше физичко стање, кашаљ, опстипација, бета блокатори, недостатак естрогена након менопаузе, претерани унос тречности, ..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мех, кашаљ, подизање терета провоцира симптом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Stress incontinence"/>
          <p:cNvPicPr/>
          <p:nvPr/>
        </p:nvPicPr>
        <p:blipFill>
          <a:blip r:embed="rId1"/>
          <a:srcRect l="3326" t="0" r="0" b="5291"/>
          <a:stretch/>
        </p:blipFill>
        <p:spPr>
          <a:xfrm>
            <a:off x="5181480" y="1371600"/>
            <a:ext cx="3581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0" t="555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100" spc="-1" strike="noStrike">
                <a:solidFill>
                  <a:srgbClr val="0000ff"/>
                </a:solidFill>
                <a:latin typeface="Calibri"/>
              </a:rPr>
              <a:t>Облици инконтиненције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Нагонска инконтиненција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бешика се неконтролисано скупља изазивајући јак нагон за мокрењем мање количине мокраћ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едица је упале, калкулозе, тумора м.бешике, хипертрофије простате, мањка естрогена, старости, стреса, неуролошких дисфункција бешике код оштећења кичмене мождине, мултипле склерозе, Паркинсонове болести, можданог крвав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100" spc="-1" strike="noStrike">
                <a:solidFill>
                  <a:srgbClr val="0000ff"/>
                </a:solidFill>
                <a:latin typeface="Calibri"/>
              </a:rPr>
              <a:t>Облици инконтиненције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</a:rPr>
              <a:t>Преливна инконтиненција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пуна м.бешика са великом количином резидуалног урина, при најмањем порасту притиска прели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агон на мокрење појављује се када је бешика препуњ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ацијент мокри мање, млаз је смањен а испуштање мокраће је готово непрекид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оже настати инфекција због ретен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од мушкараца је последица хипертрофије простате и стриктуре уретре, код жена последица лоших навика одлагања мокрења када мускулатура бешике слаб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д лекова: антидепресиви, антихистаминици, антихолинергици, седативи и хипнотиц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. мелитус смањује осећај м. бешике и узрокује непотпуно пражње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0000ff"/>
                </a:solidFill>
                <a:latin typeface="Calibri"/>
              </a:rPr>
              <a:t>Облици инконтиненције</a:t>
            </a:r>
            <a:br>
              <a:rPr sz="4200"/>
            </a:br>
            <a:r>
              <a:rPr b="1" i="1" lang="sr-CS" sz="3500" spc="-1" strike="noStrike">
                <a:solidFill>
                  <a:srgbClr val="0000ff"/>
                </a:solidFill>
                <a:latin typeface="Calibri"/>
              </a:rPr>
              <a:t>Према тежин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 u="sng">
                <a:solidFill>
                  <a:srgbClr val="000000"/>
                </a:solidFill>
                <a:uFillTx/>
                <a:latin typeface="Calibri"/>
              </a:rPr>
              <a:t>Лака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, губитак капљица или мањих количина ури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 u="sng">
                <a:solidFill>
                  <a:srgbClr val="000000"/>
                </a:solidFill>
                <a:uFillTx/>
                <a:latin typeface="Calibri"/>
              </a:rPr>
              <a:t>Средња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, губитак већих количина мокраће (500-600 мл дневно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 u="sng">
                <a:solidFill>
                  <a:srgbClr val="000000"/>
                </a:solidFill>
                <a:uFillTx/>
                <a:latin typeface="Calibri"/>
              </a:rPr>
              <a:t>Тешка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, губитак великих количина мокраће, бешика се једнократно испразни и не контролише се столиц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Calibri"/>
              </a:rPr>
              <a:t>Степеновање и лечење инконтиненциј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 u="sng">
                <a:solidFill>
                  <a:srgbClr val="000000"/>
                </a:solidFill>
                <a:uFillTx/>
                <a:latin typeface="Calibri"/>
              </a:rPr>
              <a:t>Први степен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ијање, кашљање, смех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 u="sng">
                <a:solidFill>
                  <a:srgbClr val="000000"/>
                </a:solidFill>
                <a:uFillTx/>
                <a:latin typeface="Calibri"/>
              </a:rPr>
              <a:t>Други степен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(дизање терета, ходање, пењање уз степениц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 u="sng">
                <a:solidFill>
                  <a:srgbClr val="000000"/>
                </a:solidFill>
                <a:uFillTx/>
                <a:latin typeface="Calibri"/>
              </a:rPr>
              <a:t>У трећем степену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болесник је мокар при стајању и лежању у постељи или када се окрене у њој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 u="sng">
                <a:solidFill>
                  <a:srgbClr val="0000ff"/>
                </a:solidFill>
                <a:uFillTx/>
                <a:latin typeface="Calibri"/>
              </a:rPr>
              <a:t>Терапија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лечење основне болести, чешћи одласци у тоалет, избегавати седативе, диуретике, хипнотике, катетеризацију, користити улошке и веш који упија, естрогене креме и примена тзв. Кегелових вежб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cc"/>
                </a:solidFill>
                <a:latin typeface="Calibri"/>
              </a:rPr>
              <a:t>Саве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пити 6-7 чаша воде (вишак течности оптерети бешику а мањак смањује еластицитет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бегавати чај, кафу, сокове и алкохол (надражују м.бешику и појачавају нагон за мокрењем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е уносити течност 2-4 сата пре спавањ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рша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стати са пушењем (никотин смањује прокрвљеност и подстиче кашаљ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осити памучни веш јер се лакше скида при одласку у тоале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осити специјалне улошке који упијају мокраћ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cc"/>
                </a:solidFill>
                <a:latin typeface="Calibri"/>
              </a:rPr>
              <a:t>Кегелове веж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0101"/>
                </a:solidFill>
                <a:latin typeface="Calibri"/>
              </a:rPr>
              <a:t>Прва вежба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: стиснути мишиће дна карлице, задржати три секунде па опустити, вежбу понављати десет пута, три пута днев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0101"/>
                </a:solidFill>
                <a:latin typeface="Calibri"/>
              </a:rPr>
              <a:t>Друга вежба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: што брже стискати и опуштати мишиће дна карлице и то понављати три пута днев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0101"/>
                </a:solidFill>
                <a:latin typeface="Calibri"/>
              </a:rPr>
              <a:t>Трећа вежба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: Замислити да сте у лифту од приземља до петог спрата. Када кренете почните да лагано стежете мишиће и да лагано појачавате интензитет до замишљеног петог спрата. Након тога замислите да се спуштате и лагано опуштајте мишић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Инфекција мокраћних кан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t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бол у лумбалним ложама, дизуричне сметње, непозната конфузна ст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ијагноз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 поставља случајно при систематским прегледима јер је налаз оскуд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д симптома који директно указују на ИУТ трећина старих има изражену хроничну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ијагноз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тврђује позитивна У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cc"/>
                </a:solidFill>
                <a:latin typeface="Calibri"/>
              </a:rPr>
              <a:t>Pyelonephrit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0101"/>
                </a:solidFill>
                <a:latin typeface="Calibri"/>
              </a:rPr>
              <a:t>Pyelonephritis acuta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поремећај деривације ури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Узрочници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Latn-CS" sz="2500" spc="-1" strike="noStrike">
                <a:solidFill>
                  <a:srgbClr val="ff0000"/>
                </a:solidFill>
                <a:latin typeface="Calibri"/>
              </a:rPr>
              <a:t>E. colli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, Klebsiella, Proteus, Aerobacter, Pseudomonas aeroginosa, Streptococcus faecalis, Staphylococcus piogen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: (</a:t>
            </a:r>
            <a:r>
              <a:rPr b="0" lang="sr-Latn-CS" sz="25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sr-Latn-CS" sz="25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0" lang="sr-Latn-CS" sz="2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 језа, дрхтавица, малаксалост, мучнина, бол у пределу бубрега, учестало мокрење, печење при мокрењу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0000"/>
                </a:solidFill>
                <a:latin typeface="Calibri"/>
              </a:rPr>
              <a:t>Pyelonephritis ch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као последица нелеченог акутног облика или као последица субоклузије мокраћних путе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Асимптоматски облик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је чешћи код старих особ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0000"/>
                </a:solidFill>
                <a:latin typeface="Calibri"/>
              </a:rPr>
              <a:t>Pyelonephritis 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са анемијом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која је рефракторна на лечење гвожђе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0000"/>
                </a:solidFill>
                <a:latin typeface="Calibri"/>
              </a:rPr>
              <a:t>Pyelonephritis са HTA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хипертензија настаје због атеросклерозе која изазива хипоксију паренхима бубрега, настају услови за развој ПНФ који погоршава ХТА, чиме се затвара круг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Лечење ИУ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ећати диурез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редно пражњење беши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нтибиотици (према налазу УК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збегавање нефротоксичних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4645080" y="1717560"/>
            <a:ext cx="404172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cc"/>
                </a:solidFill>
                <a:latin typeface="Calibri"/>
              </a:rPr>
              <a:t>Инциденција болесника са ТБИ код старих особ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опа болесника са уремијом је 10 пута већа изнад 75. године живота у односу на популацију између 15 и 45. годин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 1985.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одине у САД-у је било 36% болесника са ТБИ који су старији од 65. година, до краја 20-века било је 51% старијих од 65. година а 23% од 75. годи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лична је ситуација и у Европ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 Јапану је популација уремијских болесника значајно старија у односу на друге крајеве у свет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Патофизиологија старења бубре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240" y="1066680"/>
            <a:ext cx="4267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64880" indent="-1648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Старење је универзални и прогресиван процес за који се понекад у стручној литератури користи скраћеница 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КУПУР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4880" indent="-1648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4880" indent="-1648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ff"/>
                </a:solidFill>
                <a:latin typeface="Calibri"/>
              </a:rPr>
              <a:t>K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кумулативан – серија промена које се догађају током живо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4880" indent="-1648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У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универзалан – нико није поштеђен процеса старе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4880" indent="-1648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П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огресиван – промене се дешавају постепено и незаустав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4880" indent="-1648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У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унутрашњи – дешава се унутар тела или без утицаја окол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4880" indent="-1648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Р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разоран – узрокује смањење функционалног капаците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http://www.lovethatface.com/files/2013/04/agingface.jpg"/>
          <p:cNvPicPr/>
          <p:nvPr/>
        </p:nvPicPr>
        <p:blipFill>
          <a:blip r:embed="rId1"/>
          <a:stretch/>
        </p:blipFill>
        <p:spPr>
          <a:xfrm>
            <a:off x="4648320" y="1089000"/>
            <a:ext cx="4038480" cy="264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http://missinghumanmanual.com/wp-content/uploads/2011/06/aging-women.jpg"/>
          <p:cNvPicPr/>
          <p:nvPr/>
        </p:nvPicPr>
        <p:blipFill>
          <a:blip r:embed="rId2"/>
          <a:stretch/>
        </p:blipFill>
        <p:spPr>
          <a:xfrm>
            <a:off x="4648320" y="3962520"/>
            <a:ext cx="40384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cc"/>
                </a:solidFill>
                <a:latin typeface="Calibri"/>
              </a:rPr>
              <a:t>Треба ли лечити старије особе са ТБ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ћи број придружених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мен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жа прилагодљивост на болницу, дијализ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ћа стопа смртности због инфекција и КВ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аће време преживљавања у односу на мла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шкови лечења су већ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cc"/>
                </a:solidFill>
                <a:latin typeface="Calibri"/>
              </a:rPr>
              <a:t>Ипак,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Лечење старих са ТБИ је данас и боље и ефикасн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мо хронолошка доб није разлог да се болеснику са ТБИ онемогући лечењ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вим болесницима се у пракси често ускраћују поступци који им могу спасити живот и омогућити квалитетнији живот (дијализа!!!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то је важна тзв. биолошка доб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 преживљавање ових болесника пресудан значај може имати не биолошка доб већ социјална и психолошка потпор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Стари и трансплант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5680" indent="-17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тари имају већи број компликациј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5680" indent="-17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Имају мању стопу преживљавањ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5680" indent="-17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ни су високоризична популација болесника (већи број коморбидитет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5680" indent="-17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хтевају већи број анализа и претрага (анамнеза, ЕКГ, стрес-ехокардиографија, ехокардиографија, ангиографија, Допплер ултразвук илифеморалних крвних судова, ..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5680" indent="-17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естанак пушења, нормализација липид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5680" indent="-1756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0000"/>
                </a:solidFill>
                <a:latin typeface="Calibri"/>
              </a:rPr>
              <a:t>Контраиндикација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за ТБ је озбиљна церебро-васкуларна болест, болест периферних артерија, као и ЕФ ЛК мања од 35%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Calibri"/>
              </a:rPr>
              <a:t>Имунолошки систем и имуносупресиј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мене имунолошког система (имунолошко старењ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ањен број Б ћелија, промена одговора антитела на антигене, пад циркулишућих Т-ћелија, .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ањена имунолошка активност код старих условљава мањи број епизода одбацивања графта (уз циклоспорине 10-20%, код млађих 30-40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бог склоности ка инфекцијама већа је смртност ових болесни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И</a:t>
            </a: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збор старих болесника за трансплантациј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од мушкараца искључити болест простат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Холецититис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Дивертикулити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ерфорација колона (баријумска клизма и колоноскопиј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Болесници са тумором, годину дана без рецидива (плућа, дојка, црева), сматрају се излечивим (не и коже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500" spc="-1" strike="noStrike">
                <a:solidFill>
                  <a:srgbClr val="000000"/>
                </a:solidFill>
                <a:latin typeface="Calibri"/>
              </a:rPr>
              <a:t>Alzheime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ова болест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, мултипли мождани инфаркт, физичка хендикепираност, хемиплегичари, неспособни да се самостално хране, да ходају или да не могу бринути о себи се не узимају у обзир за трансплантацију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cc"/>
                </a:solidFill>
                <a:latin typeface="Calibri"/>
              </a:rPr>
              <a:t>Т</a:t>
            </a: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рансплантација и преживљавање</a:t>
            </a:r>
            <a:r>
              <a:rPr b="1" lang="sr-Latn-CS" sz="32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бубрега код старијих осо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80-их година прошлог века особе од 45 године сматране су високоризичном груп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вега 1% трансплантираних је преко 70 годин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999. године у Аустралији је 2,2% старих  трансплантираних, у Италији 2,5%, у Француској 2,1%, у Канади 5,8%, у Норвешкој 30,4%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у Швајцарској 19,5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реживљавање трансплантираних болесника у САД-у између 50 и 59.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године је 22%, између 60 и 64.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године 10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% а између 65 и 69.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године 8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ff"/>
                </a:solidFill>
                <a:latin typeface="Calibri"/>
              </a:rPr>
              <a:t>Морбидитет и морталитет с</a:t>
            </a:r>
            <a:r>
              <a:rPr b="1" lang="sr-CS" sz="3600" spc="-1" strike="noStrike">
                <a:solidFill>
                  <a:srgbClr val="0000ff"/>
                </a:solidFill>
                <a:latin typeface="Calibri"/>
              </a:rPr>
              <a:t>таријих болесника након трансплантац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3880" indent="-173880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cc"/>
                </a:solidFill>
                <a:latin typeface="Calibri"/>
              </a:rPr>
              <a:t>Контрадикторни су резултати различитих студиј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3880" indent="-17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Смртност је 9% мања код старијих пацијената који су већ били трансплантиран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3880" indent="-17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Сви познати узроци смртности су чешћи код болесника који су били на листи чекања, осим код малигних болести које су за 25% чешће код трансплантираних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3880" indent="-17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Мањи пораст КВБ код старијих након трансплантације, у односу на оне који су на дијализ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3880" indent="-17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Преживљавање старијих трансплантираних болесника боље је у односу на оне који се дијализирај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3880" indent="-17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Старији болесници у првој години након трансплантације проводе више времена у болници у односу на млађе трансплантиране особе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0000cc"/>
                </a:solidFill>
                <a:latin typeface="Calibri"/>
              </a:rPr>
              <a:t>Инциденција особа старије животне доби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240" y="13712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1900. године 4% популације у западној Европи и САД било старије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је</a:t>
            </a: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 од 65 годи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За 20 година ће 8,3% (58 милиона) европске и 6,7% (24 милиона) северноамеричке популације</a:t>
            </a:r>
            <a:r>
              <a:rPr b="0" lang="sr-Latn-C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бити старије од 75 годи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У Азији ће 2020. године 134 милиона људи ће бити старије од 65. годи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Смртност мушкараца и жена је приближно једнака до 65. годин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Изнад 65. године мушкарци осам пута чешће умиру у односу на жен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http://elgl.org/wp-content/uploads/2015/10/2.-Aging-Population.png"/>
          <p:cNvPicPr/>
          <p:nvPr/>
        </p:nvPicPr>
        <p:blipFill>
          <a:blip r:embed="rId1"/>
          <a:stretch/>
        </p:blipFill>
        <p:spPr>
          <a:xfrm>
            <a:off x="4648320" y="1600200"/>
            <a:ext cx="4267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Старење, болест или физиологија</a:t>
            </a: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14300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8200" indent="-88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Старење је резултат анатомских и функционалних промена свих орган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 и треба је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разликовати од болест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8200" indent="-88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Све особе старије животне доби не морају оболети од болести које су повезане са старењем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8200" indent="-88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Бубрези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 старих особа су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способни да одржавају хомеостазу али имају смањену способност прилагођавања на оптерећење (нефротоксични лекови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8200" indent="-88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Један од водећих здравствених проблема је смање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ње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функционалн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ог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капацитет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бубрег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4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Calibri"/>
              </a:rPr>
              <a:t>Промене бубрежних функција као резултат старењ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8200" indent="-882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Старењем се губи до 50% функције бубрега у 80 годин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8200" indent="-882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Маса бубрега смањује за 20% између 40 и 80.године (250 гр у 60 години а 190 гр у 80.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години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8200" indent="-882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Бубрежни проток крви опада за око 10% по декади, после 20. године (између 30 и 40. године 1200 мл/мин, у 80. години 600 мл/мин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8200" indent="-882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Успорена елиминација и апсорпција (7% сваке декаде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8200" indent="-882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Бубрези 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старих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одржавају хомеостазу али имају смањену способност прилагођавања на оптерећење (посебно код нефротоксичних лекова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4950000" y="990720"/>
            <a:ext cx="4041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alibri"/>
              </a:rPr>
              <a:t>Клинички симптоми обољења уринарних пут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овишена температур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Грозниц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Бол у пределу бубрег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Бол локализован у уретр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Бол из мокраћне бешик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Бол због простатитис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645080" y="1846440"/>
            <a:ext cx="40417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Поремећај мокр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Учестало мокрење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Дизурија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Инконтиненција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Хематурија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361120" y="1600200"/>
            <a:ext cx="2608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Анализа у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240" y="15998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Адекватно сакупљање мокраће је предуслов реалних резулта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отеинурија (нефроангиосклероза, фебрилно стање, ИУТ, ГНФ, нефрозе, ПНФ, БЕН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Гликозур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Еритроцити, леукоцити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Цилиндри (хијалини-протеини, гранулоцитни-протеини и епител тубула, еритроцитни, леукоцитни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Бактериуриј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rcRect l="5662" t="11136" r="5519" b="10599"/>
          <a:stretch/>
        </p:blipFill>
        <p:spPr>
          <a:xfrm>
            <a:off x="4876920" y="1600200"/>
            <a:ext cx="3733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6:12:38Z</dcterms:created>
  <dc:creator>Stolic</dc:creator>
  <dc:description/>
  <dc:language>en-US</dc:language>
  <cp:lastModifiedBy>Microsoft Office User</cp:lastModifiedBy>
  <dcterms:modified xsi:type="dcterms:W3CDTF">2023-02-07T12:01:28Z</dcterms:modified>
  <cp:revision>236</cp:revision>
  <dc:subject/>
  <dc:title>BUBREG I STARI</dc:title>
</cp:coreProperties>
</file>